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3.wmf" ContentType="image/x-wmf"/>
  <Override PartName="/ppt/media/image9.png" ContentType="image/png"/>
  <Override PartName="/ppt/media/image8.png" ContentType="image/png"/>
  <Override PartName="/ppt/media/image16.wmf" ContentType="image/x-wmf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14.wmf" ContentType="image/x-wmf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9D05-048A-428A-8340-2DD28491E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FAB0-CED2-4809-B610-F0EF1A81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62C4-346B-4310-9886-DB3425C72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4EE8-6ED7-41CA-9DD4-E40DA0459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F22D-5E57-49EB-A8E7-28A7AC36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81FC-34A7-4274-827B-23ADB4A7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0CE2-B3E6-40D3-ABEF-7A037CF4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DD3F-3FF6-4315-BA56-4A2D3FEE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FA03-0CB2-44B3-BD35-A418091F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D661-0BAA-4F38-8EB6-62337435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1A64-1535-48F6-B527-A02F00F5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55A1-B6F2-4878-85F2-47F18FA1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3B07-F803-4B97-8242-B4D3391657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Calibri"/>
              </a:rPr>
              <a:t>Google kääntää − kuka vastaa laadust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898989"/>
                </a:solidFill>
                <a:latin typeface="Calibri"/>
              </a:rPr>
              <a:t>Kansainvälinen kääntäjienpäivä 4.10.20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898989"/>
                </a:solidFill>
                <a:latin typeface="Calibri"/>
              </a:rPr>
              <a:t>Jukka K. Korpe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itä on laatu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tuitiivinen laatukäsite, ammattikunn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iksi tehdä laadukasta,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kun huonompi myy yhtä hyvi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din periaate: 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uononna parasta osa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Käännös on aina o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uotetta tai ”tuotet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iestinnän ketju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adukasta käännöstä ei huoma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C:\Users\Gigantti\AppData\Local\Microsoft\Windows\Temporary Internet Files\Content.IE5\V13L294T\MCj03441310000[1].wmf"/>
          <p:cNvPicPr/>
          <p:nvPr/>
        </p:nvPicPr>
        <p:blipFill>
          <a:blip r:embed="rId1"/>
          <a:stretch/>
        </p:blipFill>
        <p:spPr>
          <a:xfrm>
            <a:off x="5000760" y="3357720"/>
            <a:ext cx="1806480" cy="731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C:\Users\Gigantti\AppData\Local\Microsoft\Windows\Temporary Internet Files\Content.IE5\F5A8Z9R9\MCj03078910000[1].wmf"/>
          <p:cNvPicPr/>
          <p:nvPr/>
        </p:nvPicPr>
        <p:blipFill>
          <a:blip r:embed="rId2"/>
          <a:stretch/>
        </p:blipFill>
        <p:spPr>
          <a:xfrm>
            <a:off x="7000920" y="3571920"/>
            <a:ext cx="57924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Laadun arvioinnin vaike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On helpompi kehittää kaksi hyvää ratkaisua</a:t>
            </a:r>
            <a:br>
              <a:rPr sz="2700"/>
            </a:b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vaikeaan käännöspulmaan</a:t>
            </a:r>
            <a:br>
              <a:rPr sz="2700"/>
            </a:b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kuin ratkaista, kumpi on paremp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onia kriteerejä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Painottaminen vaikea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ittaaminen vaikeaa tai mahdotont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Kuka on pätevä, kuka jäävitön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Auktorisoitu käännös”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ilti on arvioitava,</a:t>
            </a:r>
            <a:br>
              <a:rPr sz="2700"/>
            </a:b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utta </a:t>
            </a:r>
            <a:r>
              <a:rPr b="0" lang="el-GR" sz="2700" spc="-1" strike="noStrike">
                <a:solidFill>
                  <a:srgbClr val="c00000"/>
                </a:solidFill>
                <a:latin typeface="Candara"/>
                <a:ea typeface="Arial Unicode MS"/>
              </a:rPr>
              <a:t>γνῶθι σεαυτ</a:t>
            </a:r>
            <a:r>
              <a:rPr b="0" lang="fi-FI" sz="2700" spc="-1" strike="noStrike">
                <a:solidFill>
                  <a:srgbClr val="c00000"/>
                </a:solidFill>
                <a:latin typeface="Candara"/>
                <a:ea typeface="Arial Unicode MS"/>
              </a:rPr>
              <a:t>ό</a:t>
            </a:r>
            <a:r>
              <a:rPr b="0" lang="el-GR" sz="2700" spc="-1" strike="noStrike">
                <a:solidFill>
                  <a:srgbClr val="c00000"/>
                </a:solidFill>
                <a:latin typeface="Candara"/>
                <a:ea typeface="Arial Unicode MS"/>
              </a:rPr>
              <a:t>ν</a:t>
            </a:r>
            <a:br>
              <a:rPr sz="2700"/>
            </a:b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– tunne itsesi, muista rajasi, kriitikkokin erehty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C:\Users\Gigantti\AppData\Local\Microsoft\Windows\Temporary Internet Files\Content.IE5\2YGXDBS7\MCPE01562_0000[1].wmf"/>
          <p:cNvPicPr/>
          <p:nvPr/>
        </p:nvPicPr>
        <p:blipFill>
          <a:blip r:embed="rId1"/>
          <a:stretch/>
        </p:blipFill>
        <p:spPr>
          <a:xfrm>
            <a:off x="5500800" y="4071960"/>
            <a:ext cx="12207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Calibri"/>
              </a:rPr>
              <a:t>Kuka osaa mitäkin arvioid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57120" y="1096920"/>
          <a:ext cx="8358120" cy="5641920"/>
        </p:xfrm>
        <a:graphic>
          <a:graphicData uri="http://schemas.openxmlformats.org/drawingml/2006/table">
            <a:tbl>
              <a:tblPr/>
              <a:tblGrid>
                <a:gridCol w="3470400"/>
                <a:gridCol w="488772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adun komponent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tä arviointi vaat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iasisältö vastaa alkuperäist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ähde- ja kohdekielen tuntemus</a:t>
                      </a:r>
                      <a:br>
                        <a:rPr sz="1800"/>
                      </a:b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kuperäisen ja käännöksen lukemin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ihepiirin tuntemin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yli(laji) vastaa alkuperäist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ten yllä + tyylita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elenmukaisu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hdekielen osaamin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elen normienmukaisu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hdekielen ja sen normien osaamin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elellinen sujuvu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hdekielen osaaminen ja…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i kirjoitusvirheit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hdekielen osaaminen + ehkä muuta</a:t>
                      </a:r>
                      <a:br>
                        <a:rPr sz="1800"/>
                      </a:b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tai oikolukuohjelma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mmärrettävy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hdekielen osaaminen + esitied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äännös tulee ajois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”</a:t>
                      </a: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sneksen” tuntemin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pii teknisesti aiottuun käyttöö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sim. mahtuu tilaa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”</a:t>
                      </a: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sneksen” tunteminen +</a:t>
                      </a:r>
                      <a:br>
                        <a:rPr sz="1800"/>
                      </a:b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knisen ympäristön halli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äyttää tehtävänsä (esim. my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Calibri"/>
              </a:rPr>
              <a:t>Kuitenkin arvioida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Jokainen tekee, mitä osaa – ja painottaa sitä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Mitattavuuden tyrann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Google Kääntäjällä vo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tehdä pohjanoteerauksen: sekin kääntää paremmin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tehdä karkeita testejä, esim. edestakaisin kääntämin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Oikoluku- yms. ohjelmilla vo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havaita kirjoitusvirheitä (ei aina oikei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havaita kielioppi- ja tyyliongelmia (ehkä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Testaajilla vo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havaita kaikenlaisia ongelmia – kalliill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päätyä harhaan, esim. irrelevantit huomiot, mielipide-ero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C:\Program Files\Microsoft Office\MEDIA\CAGCAT10\j0300840.wmf"/>
          <p:cNvPicPr/>
          <p:nvPr/>
        </p:nvPicPr>
        <p:blipFill>
          <a:blip r:embed="rId1"/>
          <a:stretch/>
        </p:blipFill>
        <p:spPr>
          <a:xfrm>
            <a:off x="7358040" y="1582560"/>
            <a:ext cx="1495440" cy="12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Lupaus ja uh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unnin sisällä kone pystyy tutustumaan yli 4.000 venäläisten julkaisujen sivuun. – –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Kone kääntää automaattisesti vieraskielisiä kirjoja sähkökääntäjän avulla.”</a:t>
            </a:r>
            <a:br>
              <a:rPr sz="28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elsingin Sanomat 10.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Konekääntäminen on pitkään ollut mahdollist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– kun kieltä rajata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452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vakiotekst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452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äärämuotoiset generoid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452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ajattu sanasto ja rakente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5072040" y="4929120"/>
            <a:ext cx="37861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Lisää haastetta kääntäjil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13840" y="1599840"/>
            <a:ext cx="8472600" cy="30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uorakulmio 3"/>
          <p:cNvSpPr/>
          <p:nvPr/>
        </p:nvSpPr>
        <p:spPr>
          <a:xfrm>
            <a:off x="500040" y="1285920"/>
            <a:ext cx="8143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53735"/>
                </a:solidFill>
                <a:latin typeface="Calibri"/>
              </a:rPr>
              <a:t>To laugh too much at stupid programmes is not worthwh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53735"/>
                </a:solidFill>
                <a:latin typeface="Calibri"/>
              </a:rPr>
              <a:t>Soon their bad big brothers will come and eat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53735"/>
                </a:solidFill>
                <a:latin typeface="Calibri"/>
              </a:rPr>
              <a:t>They know already more than many would thi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53735"/>
                </a:solidFill>
                <a:latin typeface="Calibri"/>
              </a:rPr>
              <a:t>They do not require wage incre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53735"/>
                </a:solidFill>
                <a:latin typeface="Calibri"/>
              </a:rPr>
              <a:t>They translate fast and do not compl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redits: Sivuston http://www.sunda.fi demokäänn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Lähtöteks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Ei kannata liiaksi nauraa tyhmille ohjelmil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Pian tulevat niiden pahat  isoveljet ja syövät teidä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e osaavat jo enemmän kuin moni luuleeka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e eivät vaadi palkankorotuks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e kääntävät nopeasti eivätkä vali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http://tbn0.google.com/images?q=tbn:Hcfdy1DGrSc87M:http://www.cottontimes.co.uk/cottonpix/luddites.jpg"/>
          <p:cNvPicPr/>
          <p:nvPr/>
        </p:nvPicPr>
        <p:blipFill>
          <a:blip r:embed="rId1"/>
          <a:stretch/>
        </p:blipFill>
        <p:spPr>
          <a:xfrm>
            <a:off x="5715000" y="4071960"/>
            <a:ext cx="11905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Haasteisiin vasta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Ei kilpailla ”koneiden” ehdoill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Jos joku haluaa halpaa ja nopeaa, ostako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Hyödynnetään konekääntämistä apuvälineenä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Korostetaan laatua, sen eri aspektej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Mitä laatu merkitsee asiakkaal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Sisällön oikeellisuus korostu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yyli ja vaikutelma (ehkä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Vaaditaan kontrolli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sim. ”suomenkielinen käyttöohje”, mitä se 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Yhteisöllisyy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Siirtyy netti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Hakee muotoja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Ammattiylpeys kunnia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ja realismi mielessä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4429080" y="4643280"/>
            <a:ext cx="439092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Google Kääntäjä valloittaa maailma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sää kieliä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yös ”pieniä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osin englannin kaut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Herättää ihastus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4653000" y="1143000"/>
            <a:ext cx="4491000" cy="3882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357120" y="3708360"/>
            <a:ext cx="407196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Calibri"/>
              </a:rPr>
              <a:t>Tähän Kääntäjään moni luotta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Kuvan paikkamerkki 5" descr="google-helppo.jpg"/>
          <p:cNvPicPr/>
          <p:nvPr/>
        </p:nvPicPr>
        <p:blipFill>
          <a:blip r:embed="rId1"/>
          <a:srcRect l="0" t="1352" r="0" b="1352"/>
          <a:stretch/>
        </p:blipFill>
        <p:spPr>
          <a:xfrm>
            <a:off x="1792440" y="612720"/>
            <a:ext cx="5708520" cy="4281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alibri"/>
              </a:rPr>
              <a:t>HS 19.5.2008: ”Google soomentaa vähän miten sattuu”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Google Kääntäjän houku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599840"/>
            <a:ext cx="818676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Halpa &amp; nop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nia kieliä ja yhdistelmiä, esim. suomi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bulga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suu usein oikea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ulos näyttää usein ihan järkevältä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äyttää rehelliseltä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Kuva 6" descr="hyvä käännös.jpg"/>
          <p:cNvPicPr/>
          <p:nvPr/>
        </p:nvPicPr>
        <p:blipFill>
          <a:blip r:embed="rId1"/>
          <a:stretch/>
        </p:blipFill>
        <p:spPr>
          <a:xfrm>
            <a:off x="3857760" y="3571920"/>
            <a:ext cx="5249880" cy="2214360"/>
          </a:xfrm>
          <a:prstGeom prst="rect">
            <a:avLst/>
          </a:prstGeom>
          <a:ln w="0">
            <a:noFill/>
          </a:ln>
        </p:spPr>
      </p:pic>
      <p:pic>
        <p:nvPicPr>
          <p:cNvPr id="53" name="Kuva 4" descr="googlen kääntämä sivu.jpg"/>
          <p:cNvPicPr/>
          <p:nvPr/>
        </p:nvPicPr>
        <p:blipFill>
          <a:blip r:embed="rId2"/>
          <a:stretch/>
        </p:blipFill>
        <p:spPr>
          <a:xfrm>
            <a:off x="357120" y="4941720"/>
            <a:ext cx="4643640" cy="1754280"/>
          </a:xfrm>
          <a:prstGeom prst="rect">
            <a:avLst/>
          </a:prstGeom>
          <a:ln w="9360">
            <a:solidFill>
              <a:srgbClr val="40315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ihin ”Google Kääntäjä” voi sopia ja mihin e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Calibri"/>
              </a:rPr>
              <a:t>Mihin ehkä</a:t>
            </a:r>
            <a:r>
              <a:rPr b="1" lang="fi-FI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i-FI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214360"/>
            <a:ext cx="44006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Tekstin aihepiirin ja luonteen selvittämin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Fraasin käännös, esim.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Out of sight, out of min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→</a:t>
            </a:r>
            <a:br>
              <a:rPr sz="2200"/>
            </a:br>
            <a:r>
              <a:rPr b="0" i="1" lang="fi-FI" sz="2200" spc="-1" strike="noStrike">
                <a:solidFill>
                  <a:srgbClr val="000000"/>
                </a:solidFill>
                <a:latin typeface="Calibri"/>
              </a:rPr>
              <a:t>Poissa silmistä, poissa mielestä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Apuväline osaajan käytössä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900" spc="-1" strike="noStrike">
                <a:solidFill>
                  <a:srgbClr val="000000"/>
                </a:solidFill>
                <a:latin typeface="Calibri"/>
              </a:rPr>
              <a:t>kun sana unohtunu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900" spc="-1" strike="noStrike">
                <a:solidFill>
                  <a:srgbClr val="000000"/>
                </a:solidFill>
                <a:latin typeface="Calibri"/>
              </a:rPr>
              <a:t>raakakäännös pohjaks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Käännöksen kritiikki:</a:t>
            </a:r>
            <a:br>
              <a:rPr sz="2200"/>
            </a:b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”Googlekin kääntää paremmin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Pikakäännös, työkäännös</a:t>
            </a:r>
            <a:br>
              <a:rPr sz="2200"/>
            </a:b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(kieli on väline!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Calibri"/>
              </a:rPr>
              <a:t>Ongelm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785840" y="2214360"/>
            <a:ext cx="40417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Sisältö voi olla täysin väär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Voi </a:t>
            </a:r>
            <a:r>
              <a:rPr b="1" i="1" lang="fi-FI" sz="2200" spc="-1" strike="noStrike">
                <a:solidFill>
                  <a:srgbClr val="000000"/>
                </a:solidFill>
                <a:latin typeface="Calibri"/>
              </a:rPr>
              <a:t>näyttää</a:t>
            </a: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 oikeal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Mikä takaa, että on oikein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Osaamaton ei vaan osaa</a:t>
            </a:r>
            <a:br>
              <a:rPr sz="2200"/>
            </a:b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− ja silti käyttää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Yleensä liian raaka,</a:t>
            </a:r>
            <a:br>
              <a:rPr sz="2200"/>
            </a:b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rakenteessa virheitä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Kuka arvioi arvioija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rikoisempaa (?) Google Kääntäjän käyttö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arkistus:</a:t>
            </a:r>
            <a:br>
              <a:rPr sz="28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Käännä itse, vertaa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hjelman tuotokseen </a:t>
            </a:r>
            <a:r>
              <a:rPr b="1" i="1" lang="fi-FI" sz="2400" spc="-1" strike="noStrike">
                <a:solidFill>
                  <a:srgbClr val="000000"/>
                </a:solidFill>
                <a:latin typeface="Calibri"/>
              </a:rPr>
              <a:t>tai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käännä ohjelmalla takais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 tulla ideoi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Kääntäjä t. kirjoittaja voi huomata lipsahduksia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saava huvittel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85840" y="5357880"/>
            <a:ext cx="6619680" cy="1285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63" name="Suorakulmio 7"/>
          <p:cNvSpPr/>
          <p:nvPr/>
        </p:nvSpPr>
        <p:spPr>
          <a:xfrm>
            <a:off x="4500720" y="6286680"/>
            <a:ext cx="2214360" cy="214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4929120" y="2071800"/>
            <a:ext cx="3952800" cy="928440"/>
          </a:xfrm>
          <a:prstGeom prst="rect">
            <a:avLst/>
          </a:prstGeom>
          <a:ln w="9360">
            <a:solidFill>
              <a:srgbClr val="632523"/>
            </a:solidFill>
            <a:miter/>
          </a:ln>
        </p:spPr>
      </p:pic>
      <p:pic>
        <p:nvPicPr>
          <p:cNvPr id="65" name="Picture 6" descr=""/>
          <p:cNvPicPr/>
          <p:nvPr/>
        </p:nvPicPr>
        <p:blipFill>
          <a:blip r:embed="rId3"/>
          <a:stretch/>
        </p:blipFill>
        <p:spPr>
          <a:xfrm>
            <a:off x="5286240" y="3071880"/>
            <a:ext cx="3429000" cy="880920"/>
          </a:xfrm>
          <a:prstGeom prst="rect">
            <a:avLst/>
          </a:prstGeom>
          <a:ln w="9360">
            <a:solidFill>
              <a:srgbClr val="632523"/>
            </a:solidFill>
            <a:miter/>
          </a:ln>
        </p:spPr>
      </p:pic>
      <p:pic>
        <p:nvPicPr>
          <p:cNvPr id="66" name="Picture 7" descr=""/>
          <p:cNvPicPr/>
          <p:nvPr/>
        </p:nvPicPr>
        <p:blipFill>
          <a:blip r:embed="rId4"/>
          <a:stretch/>
        </p:blipFill>
        <p:spPr>
          <a:xfrm>
            <a:off x="4786200" y="4071960"/>
            <a:ext cx="4214880" cy="1027080"/>
          </a:xfrm>
          <a:prstGeom prst="rect">
            <a:avLst/>
          </a:prstGeom>
          <a:ln w="9360">
            <a:solidFill>
              <a:srgbClr val="63252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Calibri"/>
              </a:rPr>
              <a:t>Hauskempi kuin Korsoraattori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utomaattinen kielenkääntäminen suosittua halpaa huv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e46c0a"/>
                </a:solidFill>
                <a:latin typeface="Calibri"/>
              </a:rPr>
              <a:t>Me aari ajankohtainen korottaminen meidän aineisto nojata ja e-kirjain… 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Syntax, suosii substantiiveja: are </a:t>
            </a:r>
            <a:r>
              <a:rPr b="0" lang="fi-FI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→ 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aar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e46c0a"/>
                </a:solidFill>
                <a:latin typeface="Calibri"/>
              </a:rPr>
              <a:t>Tämä sivu [has]  käänsi -sta Englantilainen lähellä langenberg.com. Me [hope] tuo kukaan käännös erehdys tehdä ei loukata sinä. 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sanakirjakäännö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Järkevän ja järjettömän sekoittaminen on usein hauskempaa:</a:t>
            </a:r>
            <a:br>
              <a:rPr sz="2000"/>
            </a:br>
            <a:r>
              <a:rPr b="0" lang="sv-SE" sz="2000" spc="-1" strike="noStrike">
                <a:solidFill>
                  <a:srgbClr val="e46c0a"/>
                </a:solidFill>
                <a:latin typeface="Calibri"/>
              </a:rPr>
              <a:t>Google Translator ofta börja förnuftigt men meningen struktur mutkistuessa sekoa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Korsoraattori, turkuraattori jne. nekin eräänlaisia kääntäji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e46c0a"/>
                </a:solidFill>
                <a:latin typeface="Calibri"/>
              </a:rPr>
              <a:t>Kyl Turussaki osataan kui mun nysse tarttis sano kielt kääntää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itä vaikuttaa (kone)kääntämisen arvostuksee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iten Google Kääntäjä muuttaa sisällö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Usein oikean kontekstin sana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– mutta merkitykseltään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ihan väär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Erityisen ikävä ja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vaarallinenkin virhelaj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Käännösmuisti syynä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ilastollinen assosiaatio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4572000" y="1571760"/>
            <a:ext cx="4572000" cy="2614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4214880" y="4284720"/>
            <a:ext cx="450036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Calibri"/>
              </a:rPr>
              <a:t>Kuka ylipäänsä vastaa laadust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Kääntäjä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Käännöstoimist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Laadunvalvonta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Yhdistys? (vrt. ammattikuntalaito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Tilaaja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Yleensä kukaan ei </a:t>
            </a:r>
            <a:r>
              <a:rPr b="1" i="1" lang="fi-FI" sz="3000" spc="-1" strike="noStrike">
                <a:solidFill>
                  <a:srgbClr val="000000"/>
                </a:solidFill>
                <a:latin typeface="Calibri"/>
              </a:rPr>
              <a:t>vasta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600" spc="-1" strike="noStrike">
                <a:solidFill>
                  <a:srgbClr val="000000"/>
                </a:solidFill>
                <a:latin typeface="Calibri"/>
              </a:rPr>
              <a:t>Vastuu</a:t>
            </a: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 on seurausten kantamis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Esim. hinnanalennus, vahingonkorvaus, lisätyö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Moraalinen vastuu” on moraalia, ei talout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7" descr="http://tbn0.google.com/images?q=tbn:49XtfYtYoRQl5M:http://atlasschool.com/db3/00272/atlasschool.com/_uimages/atlas7201.jpg"/>
          <p:cNvPicPr/>
          <p:nvPr/>
        </p:nvPicPr>
        <p:blipFill>
          <a:blip r:embed="rId1"/>
          <a:stretch/>
        </p:blipFill>
        <p:spPr>
          <a:xfrm>
            <a:off x="4214880" y="1643040"/>
            <a:ext cx="128592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5:03Z</dcterms:created>
  <dc:creator>Jukka K. Korpela</dc:creator>
  <dc:description/>
  <dc:language>en-US</dc:language>
  <cp:lastModifiedBy>Jukka K. Korpela</cp:lastModifiedBy>
  <dcterms:modified xsi:type="dcterms:W3CDTF">2008-10-02T20:18:18Z</dcterms:modified>
  <cp:revision>52</cp:revision>
  <dc:subject/>
  <dc:title>Google kääntää − kuka vastaa laadusta?</dc:title>
</cp:coreProperties>
</file>