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8.png" ContentType="image/png"/>
  <Override PartName="/ppt/media/image16.wmf" ContentType="image/x-wmf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E2C-1519-4A10-9A55-3A7911D8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EDFA-3684-4292-8064-19FA6680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2BE9-0F0D-45FC-AB4D-DF644ADF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A361-AA84-437E-A620-754256A6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7DB-2876-465A-9535-4DBC604C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4E70-CDF0-44D6-B41D-02ABF77B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6661-038D-4E7D-979C-E76CC16C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F9B2-C15F-4470-97CD-3CB7A54B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5BA-D25D-4E0B-B08E-04A3C44B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873-BF57-48C7-A01D-25CF7646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19A-03E1-44B1-91D2-ECAEED05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544-ABC7-422E-A8B1-2B126DB9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5E9B-1B99-419A-809A-A017E3B92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Calibri"/>
              </a:rPr>
              <a:t>Google kääntää − kuka vastaa laadust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98989"/>
                </a:solidFill>
                <a:latin typeface="Calibri"/>
              </a:rPr>
              <a:t>Kansainvälinen kääntäjienpäivä 4.10.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98989"/>
                </a:solidFill>
                <a:latin typeface="Calibri"/>
              </a:rPr>
              <a:t>Jukka K. Korpe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itä on laat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tuitiivinen laatukäsite, ammattikun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iksi tehdä laadukasta,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kun huonompi myy yhtä hyv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din periaate: 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uononna parasta os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Käännös on aina 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uotetta tai ”tuotet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iestinnän ketju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adukasta käännöstä ei huoma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C:\Users\Gigantti\AppData\Local\Microsoft\Windows\Temporary Internet Files\Content.IE5\V13L294T\MCj03441310000[1].wmf"/>
          <p:cNvPicPr/>
          <p:nvPr/>
        </p:nvPicPr>
        <p:blipFill>
          <a:blip r:embed="rId1"/>
          <a:stretch/>
        </p:blipFill>
        <p:spPr>
          <a:xfrm>
            <a:off x="5000760" y="3357720"/>
            <a:ext cx="1806480" cy="731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Users\Gigantti\AppData\Local\Microsoft\Windows\Temporary Internet Files\Content.IE5\F5A8Z9R9\MCj03078910000[1].wmf"/>
          <p:cNvPicPr/>
          <p:nvPr/>
        </p:nvPicPr>
        <p:blipFill>
          <a:blip r:embed="rId2"/>
          <a:stretch/>
        </p:blipFill>
        <p:spPr>
          <a:xfrm>
            <a:off x="7000920" y="3571920"/>
            <a:ext cx="5792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Laadun arvioinnin vaike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On helpompi kehittää kaksi hyvää ratkaisua</a:t>
            </a:r>
            <a:br>
              <a:rPr sz="2700"/>
            </a:b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vaikeaan käännöspulmaan</a:t>
            </a:r>
            <a:br>
              <a:rPr sz="2700"/>
            </a:b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kuin ratkaista, kumpi on paremp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onia kriteerejä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Painottaminen vaikea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ittaaminen vaikeaa tai mahdotont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Kuka on pätevä, kuka jäävitön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Auktorisoitu käännös”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ilti on arvioitava,</a:t>
            </a:r>
            <a:br>
              <a:rPr sz="2700"/>
            </a:b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utta </a:t>
            </a:r>
            <a:r>
              <a:rPr b="0" lang="el-GR" sz="2700" spc="-1" strike="noStrike">
                <a:solidFill>
                  <a:srgbClr val="c00000"/>
                </a:solidFill>
                <a:latin typeface="Candara"/>
                <a:ea typeface="Arial Unicode MS"/>
              </a:rPr>
              <a:t>γνῶθι σεαυτ</a:t>
            </a:r>
            <a:r>
              <a:rPr b="0" lang="fi-FI" sz="2700" spc="-1" strike="noStrike">
                <a:solidFill>
                  <a:srgbClr val="c00000"/>
                </a:solidFill>
                <a:latin typeface="Candara"/>
                <a:ea typeface="Arial Unicode MS"/>
              </a:rPr>
              <a:t>ό</a:t>
            </a:r>
            <a:r>
              <a:rPr b="0" lang="el-GR" sz="2700" spc="-1" strike="noStrike">
                <a:solidFill>
                  <a:srgbClr val="c00000"/>
                </a:solidFill>
                <a:latin typeface="Candara"/>
                <a:ea typeface="Arial Unicode MS"/>
              </a:rPr>
              <a:t>ν</a:t>
            </a:r>
            <a:br>
              <a:rPr sz="2700"/>
            </a:b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– tunne itsesi, muista rajasi, kriitikkokin erehty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C:\Users\Gigantti\AppData\Local\Microsoft\Windows\Temporary Internet Files\Content.IE5\2YGXDBS7\MCPE01562_0000[1].wmf"/>
          <p:cNvPicPr/>
          <p:nvPr/>
        </p:nvPicPr>
        <p:blipFill>
          <a:blip r:embed="rId1"/>
          <a:stretch/>
        </p:blipFill>
        <p:spPr>
          <a:xfrm>
            <a:off x="5500800" y="4071960"/>
            <a:ext cx="1220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Calibri"/>
              </a:rPr>
              <a:t>Kuka osaa mitäkin arvioi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57120" y="1096920"/>
          <a:ext cx="8358120" cy="5641920"/>
        </p:xfrm>
        <a:graphic>
          <a:graphicData uri="http://schemas.openxmlformats.org/drawingml/2006/table">
            <a:tbl>
              <a:tblPr/>
              <a:tblGrid>
                <a:gridCol w="3470400"/>
                <a:gridCol w="488772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adun komponent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tä arviointi vaat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asisältö vastaa alkuperäist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ähde- ja kohdekielen tuntemus</a:t>
                      </a:r>
                      <a:br>
                        <a:rPr sz="1800"/>
                      </a:b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kuperäisen ja käännöksen lukemi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hepiirin tuntemi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yli(laji) vastaa alkuperäist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ten yllä + tyylita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elenmukaisu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hdekielen osaami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elen normienmukaisu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hdekielen ja sen normien osaami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elellinen sujuvu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hdekielen osaaminen ja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 kirjoitusvirheit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hdekielen osaaminen + ehkä muuta</a:t>
                      </a:r>
                      <a:br>
                        <a:rPr sz="1800"/>
                      </a:b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tai oikolukuohjelma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mmärrettävy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hdekielen osaaminen + esitied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äännös tulee ajois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”</a:t>
                      </a: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sneksen” tuntemi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pii teknisesti aiottuun käyttöö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sim. mahtuu tila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”</a:t>
                      </a: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sneksen” tunteminen +</a:t>
                      </a:r>
                      <a:br>
                        <a:rPr sz="1800"/>
                      </a:b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knisen ympäristön halli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äyttää tehtävänsä (esim. my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Calibri"/>
              </a:rPr>
              <a:t>Kuitenkin arvioida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Jokainen tekee, mitä osaa – ja painottaa sitä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Mitattavuuden tyrann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Google Kääntäjällä vo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tehdä pohjanoteerauksen: sekin kääntää paremmin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tehdä karkeita testejä, esim. edestakaisin kääntämin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Oikoluku- yms. ohjelmilla vo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havaita kirjoitusvirheitä (ei aina oike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havaita kielioppi- ja tyyliongelmia (ehkä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Testaajilla vo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havaita kaikenlaisia ongelmia – kalliil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päätyä harhaan, esim. irrelevantit huomiot, mielipide-er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Program Files\Microsoft Office\MEDIA\CAGCAT10\j0300840.wmf"/>
          <p:cNvPicPr/>
          <p:nvPr/>
        </p:nvPicPr>
        <p:blipFill>
          <a:blip r:embed="rId1"/>
          <a:stretch/>
        </p:blipFill>
        <p:spPr>
          <a:xfrm>
            <a:off x="7358040" y="1582560"/>
            <a:ext cx="149544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Lupaus ja uh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unnin sisällä kone pystyy tutustumaan yli 4.000 venäläisten julkaisujen sivuun. – –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one kääntää automaattisesti vieraskielisiä kirjoja sähkökääntäjän avulla.”</a:t>
            </a:r>
            <a:br>
              <a:rPr sz="28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elsingin Sanomat 10.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onekääntäminen on pitkään ollut mahdollist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– kun kieltä rajat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vakiotekst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äärämuotoiset generoid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ajattu sanasto ja rakent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072040" y="4929120"/>
            <a:ext cx="3786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Lisää haastetta kääntäjil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840" y="1599840"/>
            <a:ext cx="847260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uorakulmio 3"/>
          <p:cNvSpPr/>
          <p:nvPr/>
        </p:nvSpPr>
        <p:spPr>
          <a:xfrm>
            <a:off x="500040" y="1285920"/>
            <a:ext cx="8143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To laugh too much at stupid programmes is not worthw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Soon their bad big brothers will come and eat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They know already more than many would th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They do not require wage in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They translate fast and do not com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redits: Sivuston http://www.sunda.fi demokäänn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Lähtötek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Ei kannata liiaksi nauraa tyhmille ohjelmi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Pian tulevat niiden pahat  isoveljet ja syövät teidä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e osaavat jo enemmän kuin moni luuleek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e eivät vaadi palkankorotuk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e kääntävät nopeasti eivätkä val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ttp://tbn0.google.com/images?q=tbn:Hcfdy1DGrSc87M:http://www.cottontimes.co.uk/cottonpix/luddites.jpg"/>
          <p:cNvPicPr/>
          <p:nvPr/>
        </p:nvPicPr>
        <p:blipFill>
          <a:blip r:embed="rId1"/>
          <a:stretch/>
        </p:blipFill>
        <p:spPr>
          <a:xfrm>
            <a:off x="5715000" y="4071960"/>
            <a:ext cx="1190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Haasteisiin vastaami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Ei kilpailla ”koneiden” ehdoil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Jos joku haluaa halpaa ja nopeaa, ostako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Hyödynnetään konekääntämistä apuvälineenä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Korostetaan laatua, sen eri aspekte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Mitä laatu merkitsee asiakkaal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isällön oikeellisuus korostu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yyli ja vaikutelma (ehkä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Vaaditaan kontrolli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sim. ”suomenkielinen käyttöohje”, mitä se 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Yhteisöllisy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iirtyy netti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Hakee muotoja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Ammattiylpeys kunnia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ja realismi mieless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429080" y="4643280"/>
            <a:ext cx="43909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Google Kääntäjä valloittaa maailm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sää kieli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yös ”pieniä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osin englannin kaut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Herättää ihastu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4653000" y="1143000"/>
            <a:ext cx="4491000" cy="388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357120" y="3708360"/>
            <a:ext cx="407196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Calibri"/>
              </a:rPr>
              <a:t>Tähän Kääntäjään moni luott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Kuvan paikkamerkki 5" descr="google-helppo.jpg"/>
          <p:cNvPicPr/>
          <p:nvPr/>
        </p:nvPicPr>
        <p:blipFill>
          <a:blip r:embed="rId1"/>
          <a:srcRect l="0" t="1352" r="0" b="1352"/>
          <a:stretch/>
        </p:blipFill>
        <p:spPr>
          <a:xfrm>
            <a:off x="1792440" y="612720"/>
            <a:ext cx="5708520" cy="4281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alibri"/>
              </a:rPr>
              <a:t>HS 19.5.2008: ”Google soomentaa vähän miten sattuu”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Google Kääntäjän houku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8676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Halpa &amp; nop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nia kieliä ja yhdistelmiä, esim. suomi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bulg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suu usein oike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ulos näyttää usein ihan järkevält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äyttää rehelliseltä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Kuva 6" descr="hyvä käännös.jpg"/>
          <p:cNvPicPr/>
          <p:nvPr/>
        </p:nvPicPr>
        <p:blipFill>
          <a:blip r:embed="rId1"/>
          <a:stretch/>
        </p:blipFill>
        <p:spPr>
          <a:xfrm>
            <a:off x="3857760" y="3571920"/>
            <a:ext cx="5249880" cy="2214360"/>
          </a:xfrm>
          <a:prstGeom prst="rect">
            <a:avLst/>
          </a:prstGeom>
          <a:ln w="0">
            <a:noFill/>
          </a:ln>
        </p:spPr>
      </p:pic>
      <p:pic>
        <p:nvPicPr>
          <p:cNvPr id="53" name="Kuva 4" descr="googlen kääntämä sivu.jpg"/>
          <p:cNvPicPr/>
          <p:nvPr/>
        </p:nvPicPr>
        <p:blipFill>
          <a:blip r:embed="rId2"/>
          <a:stretch/>
        </p:blipFill>
        <p:spPr>
          <a:xfrm>
            <a:off x="357120" y="4941720"/>
            <a:ext cx="4643640" cy="1754280"/>
          </a:xfrm>
          <a:prstGeom prst="rect">
            <a:avLst/>
          </a:prstGeom>
          <a:ln w="9360">
            <a:solidFill>
              <a:srgbClr val="40315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ihin ”Google Kääntäjä” voi sopia ja mihin e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Calibri"/>
              </a:rPr>
              <a:t>Mihin ehkä</a:t>
            </a:r>
            <a:r>
              <a:rPr b="1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14360"/>
            <a:ext cx="4400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Tekstin aihepiirin ja luonteen selvittämin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Fraasin käännös, esim.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Out of sight, out of mi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→</a:t>
            </a:r>
            <a:br>
              <a:rPr sz="2200"/>
            </a:br>
            <a:r>
              <a:rPr b="0" i="1" lang="fi-FI" sz="2200" spc="-1" strike="noStrike">
                <a:solidFill>
                  <a:srgbClr val="000000"/>
                </a:solidFill>
                <a:latin typeface="Calibri"/>
              </a:rPr>
              <a:t>Poissa silmistä, poissa mielestä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Apuväline osaajan käytössä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Calibri"/>
              </a:rPr>
              <a:t>kun sana unohtunu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Calibri"/>
              </a:rPr>
              <a:t>raakakäännös pohjaks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Käännöksen kritiikki:</a:t>
            </a:r>
            <a:br>
              <a:rPr sz="2200"/>
            </a:b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”Googlekin kääntää paremmin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Pikakäännös, työkäännös</a:t>
            </a:r>
            <a:br>
              <a:rPr sz="2200"/>
            </a:b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(kieli on väline!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Calibri"/>
              </a:rPr>
              <a:t>Ongel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785840" y="2214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Sisältö voi olla täysin väär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Voi </a:t>
            </a:r>
            <a:r>
              <a:rPr b="1" i="1" lang="fi-FI" sz="2200" spc="-1" strike="noStrike">
                <a:solidFill>
                  <a:srgbClr val="000000"/>
                </a:solidFill>
                <a:latin typeface="Calibri"/>
              </a:rPr>
              <a:t>näyttää</a:t>
            </a: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 oikeal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Mikä takaa, että on oikein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Osaamaton ei vaan osaa</a:t>
            </a:r>
            <a:br>
              <a:rPr sz="2200"/>
            </a:b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− ja silti käyttää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Yleensä liian raaka,</a:t>
            </a:r>
            <a:br>
              <a:rPr sz="2200"/>
            </a:b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rakenteessa virheitä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Kuka arvioi arvioija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rikoisempaa (?) Google Kääntäjän käyttö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arkistus:</a:t>
            </a:r>
            <a:br>
              <a:rPr sz="28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äännä itse, vertaa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hjelman tuotokseen </a:t>
            </a:r>
            <a:r>
              <a:rPr b="1" i="1" lang="fi-FI" sz="2400" spc="-1" strike="noStrike">
                <a:solidFill>
                  <a:srgbClr val="000000"/>
                </a:solidFill>
                <a:latin typeface="Calibri"/>
              </a:rPr>
              <a:t>tai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äännä ohjelmalla takais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 tulla ideo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ääntäjä t. kirjoittaja voi huomata lipsahduksi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saava huvitte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85840" y="5357880"/>
            <a:ext cx="6619680" cy="128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3" name="Suorakulmio 7"/>
          <p:cNvSpPr/>
          <p:nvPr/>
        </p:nvSpPr>
        <p:spPr>
          <a:xfrm>
            <a:off x="4500720" y="6286680"/>
            <a:ext cx="2214360" cy="21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4929120" y="2071800"/>
            <a:ext cx="3952800" cy="92844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5286240" y="3071880"/>
            <a:ext cx="3429000" cy="88092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4786200" y="4071960"/>
            <a:ext cx="4214880" cy="102708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Calibri"/>
              </a:rPr>
              <a:t>Hauskempi kuin Korsoraattori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utomaattinen kielenkääntäminen suosittua halpaa huv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e46c0a"/>
                </a:solidFill>
                <a:latin typeface="Calibri"/>
              </a:rPr>
              <a:t>Me aari ajankohtainen korottaminen meidän aineisto nojata ja e-kirjain… 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Syntax, suosii substantiiveja: are </a:t>
            </a:r>
            <a:r>
              <a:rPr b="0" lang="fi-FI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aar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e46c0a"/>
                </a:solidFill>
                <a:latin typeface="Calibri"/>
              </a:rPr>
              <a:t>Tämä sivu [has]  käänsi -sta Englantilainen lähellä langenberg.com. Me [hope] tuo kukaan käännös erehdys tehdä ei loukata sinä. 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sanakirjakäännö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Järkevän ja järjettömän sekoittaminen on usein hauskempaa:</a:t>
            </a:r>
            <a:br>
              <a:rPr sz="2000"/>
            </a:br>
            <a:r>
              <a:rPr b="0" lang="sv-SE" sz="2000" spc="-1" strike="noStrike">
                <a:solidFill>
                  <a:srgbClr val="e46c0a"/>
                </a:solidFill>
                <a:latin typeface="Calibri"/>
              </a:rPr>
              <a:t>Google Translator ofta börja förnuftigt men meningen struktur mutkistuessa sekoa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orsoraattori, turkuraattori jne. nekin eräänlaisia kääntäji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e46c0a"/>
                </a:solidFill>
                <a:latin typeface="Calibri"/>
              </a:rPr>
              <a:t>Kyl Turussaki osataan kui mun nysse tarttis sano kielt kääntää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itä vaikuttaa (kone)kääntämisen arvostukse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iten Google Kääntäjä muuttaa sisällö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Usein oikean kontekstin sana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– mutta merkitykseltään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ihan väär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Erityisen ikävä ja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vaarallinenkin virhela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äännösmuisti syynä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ilastollinen assosiaati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572000" y="1571760"/>
            <a:ext cx="4572000" cy="261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4214880" y="4284720"/>
            <a:ext cx="450036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Calibri"/>
              </a:rPr>
              <a:t>Kuka ylipäänsä vastaa laadust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Kääntäjä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Käännöstoimis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Laadunvalvon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Yhdistys? (vrt. ammattikuntalaito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Tilaaj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Yleensä kukaan ei </a:t>
            </a:r>
            <a:r>
              <a:rPr b="1" i="1" lang="fi-FI" sz="3000" spc="-1" strike="noStrike">
                <a:solidFill>
                  <a:srgbClr val="000000"/>
                </a:solidFill>
                <a:latin typeface="Calibri"/>
              </a:rPr>
              <a:t>vasta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600" spc="-1" strike="noStrike">
                <a:solidFill>
                  <a:srgbClr val="000000"/>
                </a:solidFill>
                <a:latin typeface="Calibri"/>
              </a:rPr>
              <a:t>Vastuu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 on seurausten kantamis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Esim. hinnanalennus, vahingonkorvaus, lisätyö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Moraalinen vastuu” on moraalia, ei talout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tbn0.google.com/images?q=tbn:49XtfYtYoRQl5M:http://atlasschool.com/db3/00272/atlasschool.com/_uimages/atlas7201.jpg"/>
          <p:cNvPicPr/>
          <p:nvPr/>
        </p:nvPicPr>
        <p:blipFill>
          <a:blip r:embed="rId1"/>
          <a:stretch/>
        </p:blipFill>
        <p:spPr>
          <a:xfrm>
            <a:off x="4214880" y="1643040"/>
            <a:ext cx="128592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5:03Z</dcterms:created>
  <dc:creator>Jukka K. Korpela</dc:creator>
  <dc:description/>
  <dc:language>en-US</dc:language>
  <cp:lastModifiedBy>Jukka K. Korpela</cp:lastModifiedBy>
  <dcterms:modified xsi:type="dcterms:W3CDTF">2008-10-02T20:18:18Z</dcterms:modified>
  <cp:revision>52</cp:revision>
  <dc:subject/>
  <dc:title>Google kääntää − kuka vastaa laadusta?</dc:title>
</cp:coreProperties>
</file>