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136-022B-4BB9-984C-FE718431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E97-8A08-4E67-BFBF-99DE0E01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582-DA66-431E-B3A1-B528B9F8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2BA-55C5-4D7F-A366-B9193329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64FF-05AA-42AD-8663-DB7D614D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FF5C-4A6D-4449-82AF-CD0C1BAE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4A6C-39A0-4F50-8D42-7DE75222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FD4D-853E-4124-BE3A-6F56EBA8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1322-428D-4F4C-AFA4-35EAA1E7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1C5D-76D0-4A29-8FAA-0C839CC0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C73D-17CC-4377-9402-F9AB02E5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1B2-9D41-478F-A746-5DA98DA0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E095-8B6D-489D-94FC-81D0BB8A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AA8A-32E2-4D75-A275-A029C7A6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CA5C-D1BE-425A-8EA6-548B363E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E048-B4BE-4652-8185-35FB8071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65DD-960D-40CF-81C1-CBE8977D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2C0-AAC2-4C43-B888-FA63FFD9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F59-4528-4D8F-B0AE-07246715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60A-2277-4DD3-B0B5-1D47DE71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81C-B64B-4DDE-BEB4-5CDCB5F1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14E-5A8E-4983-AAC8-0C5284CB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A6C-2BA6-4EB0-B21D-99CEEE6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90F-CB54-443A-B1EF-C3853C43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9314-FA35-400A-BD5B-B5D90FB8DAA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8297-E1F4-4A9E-B846-E22D886EBB8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Tekijänoikeus ja runot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b5249"/>
                </a:solidFill>
                <a:latin typeface="Arial Unicode MS"/>
              </a:rPr>
              <a:t>© 2006 Jukka K. Korpela</a:t>
            </a:r>
            <a:endParaRPr b="0" lang="en-US" sz="32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Teos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96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Ihmisen luomus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Muidenkin havaittavissa, esim. lausuttuna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Ei välttämättä julkistettu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Luovan työn tulos, omaperäinen,  omintakeinen, persoonallinen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Ei laatuvaatimuksia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Ei suojata ”taitoa ja vaivaa” (</a:t>
            </a:r>
            <a:r>
              <a:rPr b="0" lang="en-US" sz="2800" spc="-1" strike="noStrike">
                <a:solidFill>
                  <a:srgbClr val="5b5249"/>
                </a:solidFill>
                <a:latin typeface="Arial Unicode MS"/>
              </a:rPr>
              <a:t>skill and labor</a:t>
            </a: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Ei suojata ideoita, tekniikoita, tyyliä jne.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Teoslajien kirjo: tietokoneohjelma, kartta, tietokanta, sävellys, talo, valokuva…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Runoteos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Runo on yleensä suojattu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Teksteistä lähinnä vain tiedonannon luonteiset eivät ole teoksia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Omaperäisyys?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Seuraako (aloitteleva) runoilija yleisiä malleja?</a:t>
            </a:r>
            <a:br>
              <a:rPr sz="2800"/>
            </a:br>
            <a:r>
              <a:rPr b="0" i="1" lang="fi-FI" sz="2800" spc="-1" strike="noStrike">
                <a:solidFill>
                  <a:srgbClr val="5b5249"/>
                </a:solidFill>
                <a:latin typeface="Arial Unicode MS"/>
              </a:rPr>
              <a:t>Sinä siis hylkäsit mut.</a:t>
            </a:r>
            <a:br>
              <a:rPr sz="2800"/>
            </a:br>
            <a:r>
              <a:rPr b="0" i="1" lang="fi-FI" sz="2800" spc="-1" strike="noStrike">
                <a:solidFill>
                  <a:srgbClr val="5b5249"/>
                </a:solidFill>
                <a:latin typeface="Arial Unicode MS"/>
              </a:rPr>
              <a:t>Miten saan takaisin sut?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Tietokoneella generoitu runo?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Tekijänoikeuden sisältö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”</a:t>
            </a: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Taloudelliset oikeudet”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kappaleiden valmistus (kopiointi, myös osan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julkinen esittäminen (esim. lausuminen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muu saattaminen yleisön saataviin (esim. online-palvelussa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”</a:t>
            </a: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Moraaliset oikeudet”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tekijä (ja lähde) mainittav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ei saa muuttaa alentavalla tavall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9436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Voimassa 70 v tekijän kuolinvuodesta.</a:t>
            </a:r>
            <a:br>
              <a:rPr sz="2400"/>
            </a:b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Suomennokseen on erillinen tekijänoikeus.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Oikeuskeinoja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84872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Oikeus hyvitykseen (”lisenssimaksu”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Oikeus muuhun korvaukseen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Rangaistusvaatimus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Oikeuskäsittely hankala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06200" indent="-446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b5249"/>
                </a:solidFill>
                <a:latin typeface="Arial Unicode MS"/>
              </a:rPr>
              <a:t>tutkinta hidasta ja epävarmaa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06200" indent="-446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b5249"/>
                </a:solidFill>
                <a:latin typeface="Arial Unicode MS"/>
              </a:rPr>
              <a:t>siviilijuttuna kallis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lvl="1" marL="1006200" indent="-44604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b5249"/>
                </a:solidFill>
                <a:latin typeface="Arial Unicode MS"/>
              </a:rPr>
              <a:t>oikeuskäsittely kestää</a:t>
            </a:r>
            <a:endParaRPr b="0" lang="en-US" sz="20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Tekijänoikeusneuvoston lausunnot (esim. onko kyseessä teos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Yhteydenotto ”valvovaan tahoon” (esim. koulu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Laki tietoyhteiskunnan palvelujen tarjoamisesta: pikamenettely, määrämuotoinen vaatimus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Muuntelua ja muuttelua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Teosta suojataan ”muuttamattomana ja muutettuna” (esim. sovitus, käännös, lyhennelmä)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Mikä on muunnelma ja mikä on itsenäinen teos?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Käännös tulkitaan epäitsenäiseksi,</a:t>
            </a:r>
            <a:br>
              <a:rPr sz="2800"/>
            </a:b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alkuperäisen tekijän lupa tarvitaan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Parodiat tulkitaan itsenäisiksi</a:t>
            </a:r>
            <a:endParaRPr b="0" lang="en-US" sz="28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Tekijänoikeuden rajoituksia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Yksityinen kopiointi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Käyttö Kopioston tms. yleislisenssillä (sopimuslisenssi, pakkolisenssi)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Saattaminen vammaisten käytettäväksi esim. äänikirjan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Antologiat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Edelleenlevitysoikeus, esim. kirjan saa myydä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Esittäminen jumalanpalveluksessa, opetuksessa ja eräissä maksuttomissa tilaisuuksiss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Sitaatti eli lainaus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Sitaattioikeus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b5249"/>
                </a:solidFill>
                <a:latin typeface="Arial Unicode MS"/>
              </a:rPr>
              <a:t>”</a:t>
            </a: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Hyvän tavan mukaisesti tarkoituksen edellyttämässä laajuudessa”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Tekijä ja lähde mainittav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Ei tarkoita ”oteoikeutta”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Laillinen sitaatti liittyy omaan teokseen ja palvelee siinä hyväksyttävää tarkoitust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Mallina tieteellinen sitaatti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Vetoamisfunktio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Runo siteerattavissa esim. arvosteluss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Ei mainoskäytössä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2a3d7a"/>
                </a:solidFill>
                <a:latin typeface="Arial Unicode MS"/>
              </a:rPr>
              <a:t>Sitaattioikeuden rajoja</a:t>
            </a:r>
            <a:endParaRPr b="0" lang="en-US" sz="4400" spc="-1" strike="noStrike">
              <a:solidFill>
                <a:srgbClr val="2a3d7a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Vain tarvittavan osan saa siteerata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Tekijänoikeusneuvosto 1986:1: koko runoa ei saanut ottaa esimerkiksi suomen kielestä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Runon lainaaminen ”tuntojen tulkkina”?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Motto? Mietelause? Tekstin ”koristelu”? Kuolinilmoitus?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Voiko runo siteerata?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”</a:t>
            </a: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Keskusteleeko” taideteos siteeratun kanssa?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Sanan tai sanonnan käyttäminen vs. sitaatti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”</a:t>
            </a: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Vahingossa siteeraaminen”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b5249"/>
                </a:solidFill>
                <a:latin typeface="Arial Unicode MS"/>
              </a:rPr>
              <a:t>Myytti neljän tahdin säännöstä</a:t>
            </a:r>
            <a:endParaRPr b="0" lang="en-US" sz="2400" spc="-1" strike="noStrike">
              <a:solidFill>
                <a:srgbClr val="5b524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06:06:42Z</dcterms:created>
  <dc:creator>Jukka K. Korpela</dc:creator>
  <dc:description/>
  <dc:language>en-US</dc:language>
  <cp:lastModifiedBy>Jukka K. Korpela</cp:lastModifiedBy>
  <dcterms:modified xsi:type="dcterms:W3CDTF">2006-03-15T08:44:36Z</dcterms:modified>
  <cp:revision>13</cp:revision>
  <dc:subject/>
  <dc:title>Tekijänoikeus ja runot</dc:title>
</cp:coreProperties>
</file>