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38D6-CA32-4DA4-81B5-6A525A30E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4831-0833-4E7E-AE73-E61167343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7EB4-CE9F-4AB8-89BB-337FC6A7D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8B68-C52B-4F8C-BFBA-EB008C051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F1B5A-9E25-43CD-B08B-7F4869C65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8CB58-9A91-413C-B3B9-ECD819AC7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27709-2DB2-4008-9215-03F6C9819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DE502-32F6-4DB3-9961-608817C1E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9BD8A-40D1-4901-8965-802AA50D6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9A66D-CF85-4B86-80B7-F0A81E9D7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E29C5-BD42-4371-B816-8CC100C55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EC99-3E92-4651-86A5-AB9339462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8EC96-F788-4CCB-A824-B90F51E41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DDFBD-06A5-48B9-B360-2DBEB853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B9137-A57C-45E6-8CAD-0800F29B3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CD0A8-2359-4437-A62D-6388D83E5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E085B-9592-4181-8E33-743C79769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2934-539D-49AF-B112-ABEB6E645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60A8-7DDD-4888-9BA6-A10485A7E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84A6-5B31-4154-852C-A766AA2CE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8E28-906F-4251-BCE3-AB97A45F7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5A08-C1AD-4BD8-9B6B-B5234662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8E7F-F28B-4AC9-8C65-2C263DEB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E109-76C8-4664-A92F-D1145BA5C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1DD8B-3C88-4D61-956D-0CDE781E376F}" type="slidenum">
              <a:rPr b="0" lang="en-GB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52AC3-3676-4488-B4AC-37F5474DC0C1}" type="slidenum">
              <a:rPr b="0" lang="en-GB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Verdana"/>
              </a:rPr>
              <a:t>Breaking the Barrie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Making digital content accessible to</a:t>
            </a:r>
            <a:br>
              <a:rPr sz="3200"/>
            </a:b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people with special needs</a:t>
            </a:r>
            <a:br>
              <a:rPr sz="3200"/>
            </a:br>
            <a:r>
              <a:rPr b="0" lang="en-GB" sz="1800" spc="-1" strike="noStrike">
                <a:solidFill>
                  <a:srgbClr val="eaeaea"/>
                </a:solidFill>
                <a:latin typeface="Verdana"/>
              </a:rPr>
              <a:t>Jukka K. Korpela</a:t>
            </a: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2880" y="-360"/>
            <a:ext cx="27432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66"/>
                </a:solidFill>
                <a:latin typeface="Verdana"/>
              </a:rPr>
              <a:t>Open</a:t>
            </a:r>
            <a:r>
              <a:rPr b="0" lang="fi-FI" sz="2800" spc="-1" strike="noStrike">
                <a:solidFill>
                  <a:srgbClr val="ffcc66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ffcc66"/>
                </a:solidFill>
                <a:latin typeface="Verdana"/>
              </a:rPr>
              <a:t>WWW</a:t>
            </a:r>
            <a:r>
              <a:rPr b="0" lang="fi-FI" sz="2800" spc="-1" strike="noStrike">
                <a:solidFill>
                  <a:srgbClr val="ffcc66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43040" y="1066320"/>
            <a:ext cx="4343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eaeaea"/>
                </a:solidFill>
                <a:latin typeface="Verdana"/>
              </a:rPr>
              <a:t>small font siz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eaeaea"/>
                </a:solidFill>
                <a:latin typeface="Verdana"/>
              </a:rPr>
              <a:t>text not resizabl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eaeaea"/>
                </a:solidFill>
                <a:latin typeface="Verdana"/>
              </a:rPr>
              <a:t>poor contras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eaeaea"/>
                </a:solidFill>
                <a:latin typeface="Verdana"/>
              </a:rPr>
              <a:t>several menus (confusion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eaeaea"/>
                </a:solidFill>
                <a:latin typeface="Verdana"/>
              </a:rPr>
              <a:t>scrolling text (below “60” 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4" name="un-site" descr=""/>
          <p:cNvPicPr/>
          <p:nvPr/>
        </p:nvPicPr>
        <p:blipFill>
          <a:blip r:embed="rId1"/>
          <a:stretch/>
        </p:blipFill>
        <p:spPr>
          <a:xfrm>
            <a:off x="0" y="0"/>
            <a:ext cx="4135320" cy="4267080"/>
          </a:xfrm>
          <a:prstGeom prst="rect">
            <a:avLst/>
          </a:prstGeom>
          <a:ln w="0">
            <a:noFill/>
          </a:ln>
        </p:spPr>
      </p:pic>
      <p:pic>
        <p:nvPicPr>
          <p:cNvPr id="95" name="un-text" descr=""/>
          <p:cNvPicPr/>
          <p:nvPr/>
        </p:nvPicPr>
        <p:blipFill>
          <a:blip r:embed="rId2"/>
          <a:stretch/>
        </p:blipFill>
        <p:spPr>
          <a:xfrm>
            <a:off x="228600" y="4114800"/>
            <a:ext cx="5943600" cy="30193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477120" y="4267080"/>
            <a:ext cx="2361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eaeaea"/>
                </a:solidFill>
                <a:latin typeface="Verdana"/>
              </a:rPr>
              <a:t>Text browsing: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eaeaea"/>
                </a:solidFill>
                <a:latin typeface="Verdana"/>
              </a:rPr>
              <a:t>tragicomic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66"/>
                </a:solidFill>
                <a:latin typeface="Verdana"/>
              </a:rPr>
              <a:t>Aspects of accessibility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Non-visual brows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Legibility of text to</a:t>
            </a:r>
            <a:br>
              <a:rPr sz="3200"/>
            </a:b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visually impair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Simple structure for</a:t>
            </a:r>
            <a:br>
              <a:rPr sz="3200"/>
            </a:b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cognitively challeng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Usability without mous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Simple languag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Text-only versions: harmful</a:t>
            </a:r>
            <a:r>
              <a:rPr b="0" lang="fi-FI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Verdana"/>
              </a:rPr>
              <a:t>Challeng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We don’t know enoug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We need new techniques &amp; method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Goals and policies to be defin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Ensure implement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Verdana"/>
              </a:rPr>
              <a:t>Approach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10663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81320" indent="-4813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Verdana"/>
              </a:rPr>
              <a:t>Official recommendation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82640" indent="-42120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eaeaea"/>
                </a:solidFill>
                <a:latin typeface="Verdana"/>
              </a:rPr>
              <a:t>W3C (WAI), EU, …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82640" indent="-42120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eaeaea"/>
                </a:solidFill>
                <a:latin typeface="Verdana"/>
              </a:rPr>
              <a:t>public sites only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82640" indent="-42120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eaeaea"/>
                </a:solidFill>
                <a:latin typeface="Verdana"/>
              </a:rPr>
              <a:t>limited impact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82640" indent="-42120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eaeaea"/>
                </a:solidFill>
                <a:latin typeface="Verdana"/>
              </a:rPr>
              <a:t>partly out of dat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82640" indent="-42120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eaeaea"/>
                </a:solidFill>
                <a:latin typeface="Verdana"/>
              </a:rPr>
              <a:t>credibility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481320" indent="-4813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Verdana"/>
              </a:rPr>
              <a:t>Law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82640" indent="-42120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eaeaea"/>
                </a:solidFill>
                <a:latin typeface="Verdana"/>
              </a:rPr>
              <a:t>US: Section 508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82640" indent="-42120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eaeaea"/>
                </a:solidFill>
                <a:latin typeface="Verdana"/>
              </a:rPr>
              <a:t>federally funded sites only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82640" indent="-42120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1" lang="en-GB" sz="1800" spc="-1" strike="noStrike">
                <a:solidFill>
                  <a:srgbClr val="eaeaea"/>
                </a:solidFill>
                <a:latin typeface="Verdana"/>
              </a:rPr>
              <a:t>undue burden” exemptio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481320" indent="-4813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Verdana"/>
              </a:rPr>
              <a:t>Competition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82640" indent="-42120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eaeaea"/>
                </a:solidFill>
                <a:latin typeface="Verdana"/>
              </a:rPr>
              <a:t>quality criteri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82640" indent="-42120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eaeaea"/>
                </a:solidFill>
                <a:latin typeface="Verdana"/>
              </a:rPr>
              <a:t>reward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82640" indent="-42120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eaeaea"/>
                </a:solidFill>
                <a:latin typeface="Verdana"/>
              </a:rPr>
              <a:t>motivation?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481320" indent="-4813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Verdana"/>
              </a:rPr>
              <a:t>Advice, suppor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82640" indent="-42120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eaeaea"/>
                </a:solidFill>
                <a:latin typeface="Verdana"/>
              </a:rPr>
              <a:t>attempts in EU (</a:t>
            </a:r>
            <a:r>
              <a:rPr b="1" lang="fi-FI" sz="18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1" lang="en-GB" sz="1800" spc="-1" strike="noStrike">
                <a:solidFill>
                  <a:srgbClr val="eaeaea"/>
                </a:solidFill>
                <a:latin typeface="Verdana"/>
              </a:rPr>
              <a:t>centres of excellence”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82640" indent="-42120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eaeaea"/>
                </a:solidFill>
                <a:latin typeface="Verdana"/>
              </a:rPr>
              <a:t>guidelines vs. consultatio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82640" indent="-42120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eaeaea"/>
                </a:solidFill>
                <a:latin typeface="Verdana"/>
              </a:rPr>
              <a:t>new technologies (tools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Verdana"/>
              </a:rPr>
              <a:t>Goals vs. tool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Guidelines (WAI) as goal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Checklists as goal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Accessibility checkers (e.g., Bobby) as goal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Lost focus: aiming at satisfying criteria, not helping peopl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Example: accesskeys</a:t>
            </a:r>
            <a:r>
              <a:rPr b="0" lang="fi-FI" sz="3200" spc="-1" strike="noStrike">
                <a:solidFill>
                  <a:srgbClr val="eaeaea"/>
                </a:solidFill>
                <a:latin typeface="Verdana"/>
              </a:rPr>
              <a:t> (</a:t>
            </a: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shortcuts</a:t>
            </a:r>
            <a:r>
              <a:rPr b="0" lang="fi-FI" sz="3200" spc="-1" strike="noStrike">
                <a:solidFill>
                  <a:srgbClr val="eaeaea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Alt+F opens “File” men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Alt+F has page-specific func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eaeaea"/>
                </a:solidFill>
                <a:latin typeface="Verdana"/>
              </a:rPr>
              <a:t>Send feedback, complain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Verdana"/>
              </a:rPr>
              <a:t>Understandable tex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Key issue: affects most peopl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Some special needs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language barrier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cognitive disabilit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elderly people (vocabulary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Public sites use very complex languag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Easy Language recommendatio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Readability indexes </a:t>
            </a:r>
            <a:r>
              <a:rPr b="0" lang="fi-FI" sz="2400" spc="-1" strike="noStrike">
                <a:solidFill>
                  <a:srgbClr val="eaeaea"/>
                </a:solidFill>
                <a:latin typeface="Verdana"/>
              </a:rPr>
              <a:t>(</a:t>
            </a: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grade levels</a:t>
            </a:r>
            <a:r>
              <a:rPr b="0" lang="fi-FI" sz="2400" spc="-1" strike="noStrike">
                <a:solidFill>
                  <a:srgbClr val="eaeaea"/>
                </a:solidFill>
                <a:latin typeface="Verdana"/>
              </a:rPr>
              <a:t>) </a:t>
            </a: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– for English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Legal requirements on readability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Spelling and grammar check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Language</a:t>
            </a: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-specific guidelines and tool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3000" y="-152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Verdana"/>
              </a:rPr>
              <a:t>Combined strateg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8380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Create and maintain guidelin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universa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language and culture specifi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opic-specifi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Set up legal requirements when suitabl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effectiv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enforceabl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enforc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Organize support cent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tutorial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consulta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gathering user experienc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Patience! We have a long way to go</a:t>
            </a:r>
            <a:r>
              <a:rPr b="0" lang="fi-FI" sz="24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-152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ffcc66"/>
                </a:solidFill>
                <a:latin typeface="Verdana"/>
              </a:rPr>
              <a:t>Particip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8380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eople with special needs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an make special contributio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omplaints, critiqu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estin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new idea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ne man’s necessity is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is neighbors’ convenien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font size contro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keyboard naviga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haptic mous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Mainstream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Localization, customization, personaliz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1" name="hapticdevice-2692" descr=""/>
          <p:cNvPicPr/>
          <p:nvPr/>
        </p:nvPicPr>
        <p:blipFill>
          <a:blip r:embed="rId1"/>
          <a:stretch/>
        </p:blipFill>
        <p:spPr>
          <a:xfrm>
            <a:off x="5715000" y="4419720"/>
            <a:ext cx="121932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3T14:47:30Z</dcterms:created>
  <dc:creator>Jukka K. Korpela</dc:creator>
  <dc:description/>
  <dc:language>en-US</dc:language>
  <cp:lastModifiedBy>Jukka K. Korpela</cp:lastModifiedBy>
  <dcterms:modified xsi:type="dcterms:W3CDTF">2006-01-13T13:01:16Z</dcterms:modified>
  <cp:revision>20</cp:revision>
  <dc:subject/>
  <dc:title>Breaking the Barriers</dc:title>
</cp:coreProperties>
</file>