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BC8-3287-4A8F-94AA-80657958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A66-F006-46BE-9274-1C4BF4E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E94-3FD5-4103-A11F-FD5F47A7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013-44E8-4E1F-A66E-E4AC6BB9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41A-101C-41F6-9871-1C515B3C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59D-E788-4936-8239-602F37C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1AF-3E6C-4BF3-BD35-1A6BE7F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DDA6-5100-44FD-9795-722A64AC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B2B-44AE-49E1-B832-9A0E8095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D684-4BED-4634-AC00-1FA9D5A0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411E-130A-4766-A7E2-7882553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510-A810-4C2C-BFC2-41F0D4D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E75C-F04E-4EC1-91DF-CB237EA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2032-8FF5-4D77-BAC5-0A02D62A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53C3-A27B-4435-9E81-F31F629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332-7142-4500-8B73-F9024D58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239A-2279-40B6-87B2-A54708B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27C-B666-4101-BAA3-F3D23576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939-1B82-467C-9C86-1B01132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779-66AE-4E8F-BAF0-0107592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42C-6D53-4F9C-B082-94675844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1BD-A339-4ABF-AD1D-A51E54E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BD3-EBC8-4C18-AF66-53D741F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ABE-C276-4015-ABDA-3C7FAB7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E19-BD46-4F12-8BDC-1C6A90507BD6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413F-1896-4608-B7D0-3033DCE12F60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Breaking the Barri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Making digital content accessible to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eople with special needs</a:t>
            </a:r>
            <a:br>
              <a:rPr sz="32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Jukka K. Korpela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-360"/>
            <a:ext cx="2743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Verdana"/>
              </a:rPr>
              <a:t>Open</a:t>
            </a:r>
            <a:r>
              <a:rPr b="0" lang="fi-FI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cc66"/>
                </a:solidFill>
                <a:latin typeface="Verdana"/>
              </a:rPr>
              <a:t>WWW</a:t>
            </a:r>
            <a:r>
              <a:rPr b="0" lang="fi-FI" sz="2800" spc="-1" strike="noStrike">
                <a:solidFill>
                  <a:srgbClr val="ffcc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43040" y="10663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mall font siz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ext not res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poor contra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everal menus (confusi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crolling text (below “60” 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un-site" descr=""/>
          <p:cNvPicPr/>
          <p:nvPr/>
        </p:nvPicPr>
        <p:blipFill>
          <a:blip r:embed="rId1"/>
          <a:stretch/>
        </p:blipFill>
        <p:spPr>
          <a:xfrm>
            <a:off x="0" y="0"/>
            <a:ext cx="4135320" cy="4267080"/>
          </a:xfrm>
          <a:prstGeom prst="rect">
            <a:avLst/>
          </a:prstGeom>
          <a:ln w="0">
            <a:noFill/>
          </a:ln>
        </p:spPr>
      </p:pic>
      <p:pic>
        <p:nvPicPr>
          <p:cNvPr id="95" name="un-text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594360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77120" y="426708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ext browsing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ragicom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Verdana"/>
              </a:rPr>
              <a:t>Aspects of accessibil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on-visual brow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egibility of text to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visually impa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imple structure for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gnitively challeng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Usability without m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imple langu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xt-only versions: harmful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e don’t know enoug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e need new techniques &amp; meth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oals and policies to be def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nsure imple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Official recommenda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W3C (WAI), EU, …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public sites on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limited impac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partly out of da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credi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Law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US: Section 50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federally funded sites on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undue burden” exemp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Compet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quality crite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rewar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motivation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dvice, sup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attempts in EU (</a:t>
            </a:r>
            <a:r>
              <a:rPr b="1" lang="fi-FI" sz="1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centres of excellence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guidelines vs. consult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new technologies (tool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Goals vs. to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uidelines (WAI)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hecklists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ccessibility checkers (e.g., Bobby)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ost focus: aiming at satisfying criteria, not helping 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xample: accesskeys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hortcuts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t+F opens “File” men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t+F has page-specifi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eaeaea"/>
                </a:solidFill>
                <a:latin typeface="Verdana"/>
              </a:rPr>
              <a:t>Send feedback, complai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Understandable tex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issue: affects most peo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me special need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language barri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gnitive dis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lderly people (vocabula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ublic sites use very complex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asy Language recommend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adability indexes 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grade levels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– for Engli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Legal requirements on readabilit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pelling and grammar che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nguage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-specific guidelines and to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Combined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reate and maintain guidel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nguage and culture specif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pic-specif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t up legal requirements when suit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ffec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nforce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nfor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Organize support cent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l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gathering user experi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atience! We have a long way to go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Verdana"/>
              </a:rPr>
              <a:t>Particip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ople with special needs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n make special contribu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aints, criti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s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man’s necessity is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neighbors’ conven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nt size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yboard navi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ptic m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instrea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calization, customization, personal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hapticdevice-2692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2193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4:47:30Z</dcterms:created>
  <dc:creator>Jukka K. Korpela</dc:creator>
  <dc:description/>
  <dc:language>en-US</dc:language>
  <cp:lastModifiedBy>Jukka K. Korpela</cp:lastModifiedBy>
  <dcterms:modified xsi:type="dcterms:W3CDTF">2006-01-13T13:01:16Z</dcterms:modified>
  <cp:revision>20</cp:revision>
  <dc:subject/>
  <dc:title>Breaking the Barriers</dc:title>
</cp:coreProperties>
</file>